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554-1D27-4C48-9B4E-B8BB26E6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C88-2521-4306-8261-6F163514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4E7-6231-4592-9C49-81F80B2D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47B-DEB7-45D5-BCF1-DD4243CA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97F9-91FF-411E-8CB5-214F3478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CA5-4C1A-4CAE-842E-057919C2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414-EB77-4272-B8F5-1429570E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A1D-CB3C-4ED1-97D3-24671059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9BE-E032-42F2-90D4-C15A3DE4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522-C8DE-4738-8908-DFE7FEC9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450-E56B-4B25-87BA-82CEF18B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C40-608E-48B1-A055-BE1E4FA3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DAD-814D-46E8-B2FF-21DAFB5F1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1640" y="981000"/>
            <a:ext cx="4932360" cy="5877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211640" cy="5877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819440" y="189000"/>
            <a:ext cx="460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...Opinión Pública...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76280"/>
            <a:ext cx="864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¿Cómo funciono el expression on a controversial topic en la gente que escuchó el programa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meramente la gente adopto una postura un tanto incrédula a lo que estaban escuchando, se mantenían al margen de los hechos y aunque se intrigaban por lo que supuestamente estaba sucediendo aún mantenían cierto grado de espec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76280"/>
            <a:ext cx="8642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2.- ¿Cómo funcionó el expression of an attitude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forme la transmisión fue avanzando la credibilidad de la información se fue acrecentando, las especulaciones comenzaban a tomar fuerza y los primeros brotes de pánico se dieron a lu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476280"/>
            <a:ext cx="86421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3.- ¿Cómo funcionó el attitude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bido al gran realismo que impuso Orson Welles en la transmisión la gente creyó completamente en su transmisión y el pánico no se hizo esperar provocando miles de llamadas a la estación radiofónica y ciertas medidas preventivas tomadas por la sociedad tales como bloquear los accesos a su respectivas residencias y estar completamente pendientes de la transm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25920" y="422100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13200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476280"/>
            <a:ext cx="864216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.- Cita un ejemplo de las tres partes del postulado expresadas en la pregunta anterior que hayas detectado en algún asunto que haya sido discutido en la opinión púb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so del aumento de la tarifa al transporte público, al principio la gente comentaba un tanto molesta en cuanto a la situación, posteriormente la actitud se incrementaba en base a manifestaciones y demás protestas y finalmente solo quedo la indignación por parte del público que se beneficia de este servi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286680" y="4809960"/>
            <a:ext cx="2857320" cy="2048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524720" y="3429000"/>
            <a:ext cx="981000" cy="1352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659640" y="3789360"/>
            <a:ext cx="677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07:05:45Z</dcterms:created>
  <dc:creator>WinuE</dc:creator>
  <dc:description/>
  <dc:language>en-US</dc:language>
  <cp:lastModifiedBy>WinuE</cp:lastModifiedBy>
  <dcterms:modified xsi:type="dcterms:W3CDTF">2009-09-03T07:32:57Z</dcterms:modified>
  <cp:revision>2</cp:revision>
  <dc:subject/>
  <dc:title>Diapositiva 1</dc:title>
</cp:coreProperties>
</file>